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CC0-A8DA-4B1F-BE77-7B18E31B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012-1A80-4FD1-B2EF-90D4E6AB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35B-9724-403C-9CCF-A269925E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81B-64C3-432B-9DC8-C2624FD0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CA8-30E9-42FC-8880-93DCA8EA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FA6-77C3-4544-A97D-A2E059D8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026-AD29-4087-B896-FE3E26AC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973D-2D0F-42A6-8F80-059EA0A8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104-0A0B-4D30-93F9-2C56E80F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159-5D40-4A7B-97A7-B0404AEA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89A-1974-46E8-B355-9EBFAC00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076-3A4B-40B2-AC9E-98F21D47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181C-CC7A-4C8B-855C-460860B58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ّ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228600" y="0"/>
            <a:ext cx="5105520" cy="9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 ربي قلبك حنّان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ت اللي عليِّ سهران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طيني بحبك صير كبي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كن قلبي يضل صغي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كِبْرو بمحبة ملي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4572000" cy="9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ي قلت بإنجيل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لناس اللي تابعين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لي ما في عندو قلب صغيّر يعرف إنو يح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ّو من تلاميذ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514600" y="5067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4572000" cy="62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للحب اخترتو عمري للرب اندرتو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ما إكبر عمري يضل من نبعك يغرُف ما يمل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دك يبقى لآخِرتو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5:35:46Z</dcterms:created>
  <dc:creator>SUZANNE.MD</dc:creator>
  <dc:description/>
  <dc:language>en-US</dc:language>
  <cp:lastModifiedBy>HANI SAFI</cp:lastModifiedBy>
  <dcterms:modified xsi:type="dcterms:W3CDTF">2003-05-03T04:09:11Z</dcterms:modified>
  <cp:revision>3</cp:revision>
  <dc:subject/>
  <dc:title>PowerPoint Presentation</dc:title>
</cp:coreProperties>
</file>